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3D7-AE84-4876-9463-328E8C3C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3F6-8509-438B-8B23-75C5B6AB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04C-7E7D-4182-BEE9-24AEEDD4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C35-8EF9-49E5-83F3-43DD8A25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F8F-3B5F-4DAD-8240-B083ED01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833-7EEB-4A47-A4E4-8765850B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85E-69F8-42B1-9B3C-A2FD433E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057-4F6B-458E-82E8-FAB91551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BC3-33E3-441B-A8B5-077A6FF6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C40-148D-480F-A918-B9005DD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A31-973B-431D-9083-BEEFE463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558-CC7F-4413-BA90-FBA8770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BFAE-51A5-4761-85AD-98B7DBF64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 &amp;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ew, Mary Rob &amp;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items in 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tta, Lucia, and Ben are rehearsing a scene from the musical Gr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two or more adjectives proceeding a 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herine Dunham is a creative, talented dancer and choreograp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comma before and, but, or, nor, for, so, and yet when they join independent cl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work with Emma, and Josh will help with B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t of non essential clauses and non essential ph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of the kittens, frightened by the thunder, jumped into my 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ertain introductor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, what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t of elements that interrupt a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pa, a game similar to volleyball, is a popular sport in the Philipp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noun 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noun should agree with it’s antecedent in number and in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hur Mitchell founded his own ballet comp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ular pronouns are used to refer to the following antecedents: anybody, anyone, anything, each, either, everybody, everyone, everything, neither, nobody, no one, nothing, one, somebody, someone, some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se women runs her ow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lural pronoun is used to refer to two or more singular antecedents joined by 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da and Lupe presented their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ular pronoun is used to refer to two or more singular antecedents joined by or or n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Paul or Diego is willing to drive his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ingular and a plural antecedent are joined by or or nor, the pronoun usually agrees with the nearer anteced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ther the puppies nor our full-grown dog likes its new to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3:23:16Z</dcterms:created>
  <dc:creator>User</dc:creator>
  <dc:description/>
  <dc:language>en-US</dc:language>
  <cp:lastModifiedBy>User</cp:lastModifiedBy>
  <dcterms:modified xsi:type="dcterms:W3CDTF">2006-10-10T13:43:54Z</dcterms:modified>
  <cp:revision>2</cp:revision>
  <dc:subject/>
  <dc:title>Commas &amp; Pronouns</dc:title>
</cp:coreProperties>
</file>